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100-D1A3-4291-90E5-7CB17D07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D3C-2B28-4134-85D7-3D67991E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D05-C984-4D5E-9263-D4425628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7AA-AACE-495C-A58F-6D5897D3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1516-C551-49B9-B564-3A82ACC1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E199-081C-4EFA-8842-F993F31B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4DE0-F074-41A9-B2E7-76CFCA46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EBD5-6FC7-49C7-8E2F-53F2C5AC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F0B1-737A-45A0-8BA0-ED056E9B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94A6-F261-4F2A-8EA7-6DF33638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67DB-7C11-4C0F-B397-117A5A56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A16-50F3-4654-9091-E7F47B66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D91A-74C4-4D3F-8C2A-2B18DA81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006A-922F-4ECB-875E-2C2854DD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BB29-1C9D-459F-997E-2E354AC9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E764-DD20-45A7-8EEA-D46D0DDC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E141-3AFE-4DFE-8380-98C6E28D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FC381-6224-4524-AD01-527ED2F1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9036-A499-4D5D-83E6-15917FE8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FBAF-68DB-445B-B50D-78D065F6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A413-B2EE-4ADC-A10E-A0869D5B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DAD1F-B4FF-4919-9C44-842ABD4A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105-4055-446C-90C2-9DBAE374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E531-7914-48D7-A7C9-885859F0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7FE2C-39FE-4DB3-9EC7-BC45DD5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88CC-050D-4075-8C96-244D3907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0827-A6BB-400A-A782-0ACE9C58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961B-8201-4680-A0F9-B61A9AEE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7728A-4A11-41F8-ADE3-C4EFEE62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23DC-D540-4689-B068-1EED4C29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5183C-4B96-4236-94CD-1ADF869B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422EF-E1B4-4AE2-81C7-9E45ADED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96AAD-2F32-4C00-840A-B8D6F738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4E2-5361-4D4B-9503-B83ECF9D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C167-8782-4D32-BF58-7060EB8C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41F24-B9BA-4BF8-869E-3F3E5B94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85EF-CB78-4A5F-A024-452AC9A1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181A9-5E04-4958-AFD2-189C51D5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619EA-60DF-44F8-BF8C-70BEF342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C6723-34DF-4B5F-99E2-A160894B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0E144-3CC8-4AA3-8608-066C0181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FB03-178D-4C14-90F6-F553A509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8EAA-DEE3-475B-9F9D-1813B4F2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BAD-2DCB-4B2F-B2E0-6D629704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513-7FF2-4FEA-BE93-F2DCFB20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7BB-3A1F-47C8-AB4A-1071D074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028-FC07-456C-ABD0-148D9C0F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5FB-0C3B-47FA-A4E3-8BDDA1E2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5796-33D2-43BC-8ECD-907F46475F9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9CAB-BA09-4AE1-BEF1-22E88F2224D1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728D-91AB-4ED2-B3E3-FC3A3987FEA3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5448-93D4-40CA-9577-3A93B857801A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8FBF-B1AE-45E4-AE6B-EE5C3FC77A04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F903-607E-4797-A50B-75EBA4333913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ACDB-EA60-4393-AABE-4329BF6604F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E5ED-25F1-421B-A383-E9728F766329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Social Stud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7701480" y="5181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8EBF-6C23-4158-9C6E-BDEC11FF1BCF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National Empower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72680" cy="4206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ation is another word for countr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ach nation makes its own law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cides what to do with its natural resourc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cide to go to war or no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C:\Users\dawn.jessome\AppData\Local\Microsoft\Windows\Temporary Internet Files\Content.IE5\VY6K8DU9\MC900018776[1].wmf"/>
          <p:cNvPicPr/>
          <p:nvPr/>
        </p:nvPicPr>
        <p:blipFill>
          <a:blip r:embed="rId1"/>
          <a:stretch/>
        </p:blipFill>
        <p:spPr>
          <a:xfrm>
            <a:off x="2666880" y="4724280"/>
            <a:ext cx="2994120" cy="1536840"/>
          </a:xfrm>
          <a:prstGeom prst="rect">
            <a:avLst/>
          </a:prstGeom>
          <a:ln w="0">
            <a:noFill/>
          </a:ln>
        </p:spPr>
      </p:pic>
      <p:sp>
        <p:nvSpPr>
          <p:cNvPr id="2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305B-F67A-4CD2-A82A-4F481BD741DE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248680" cy="15922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3284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aving a say in how things are organize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nd how decisions are mad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Political Leaders, Decisions  about Educatio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F6E5-0AFA-43B5-889F-9BF51CBA919A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47840" y="30492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olitical Empower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01280" cy="4206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way we organize ourselves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ke decisions in our schools, communities and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untr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ote political leaders; student council member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2" descr="C:\Users\dawn.jessome\AppData\Local\Microsoft\Windows\Temporary Internet Files\Content.IE5\LBOXLUVH\MC900128650[1].wmf"/>
          <p:cNvPicPr/>
          <p:nvPr/>
        </p:nvPicPr>
        <p:blipFill>
          <a:blip r:embed="rId1"/>
          <a:stretch/>
        </p:blipFill>
        <p:spPr>
          <a:xfrm>
            <a:off x="3581280" y="3657600"/>
            <a:ext cx="2057400" cy="303228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0F1D-30EC-428A-B05E-E066647E0194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493120" cy="1592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32840" cy="38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Economic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– how people work to create wealth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ultural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– language, food, clothing, spiritual belief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ocietal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– everything people do when they live, work and play together in communiti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2EFC-1531-4323-8F8F-921EB8D272BC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493120" cy="15922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32840" cy="38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National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– what a nation doe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ithout other nations telling them what to do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Political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– having a say in how things are organized and how decisions are mad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49DE-4573-43B3-A1B6-921E4A73C07F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9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Empowerment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1066680" y="2666880"/>
            <a:ext cx="777240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powerment comes from h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bility to do something about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eds, wants, opinions, beliefs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e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3168-AB46-4BD1-B324-72A40F4DD089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340480" cy="1592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328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1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- how people work to create wealth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(How we use money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to produce, distribute, and consum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goods/service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533520" y="3429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085F-0F04-40F1-A10A-8114180D6428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5462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conomic Empower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77240" cy="3429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2000"/>
          </a:bodyPr>
          <a:p>
            <a:pPr marL="1620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ving enough wealth to take care of your nee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alth Is distributed through a system wher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work to earn mon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the money to buy what they n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with less money have fewer choices when it com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needs such as food, shelter, clothing and educ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C:\Users\dawn.jessome\AppData\Local\Microsoft\Windows\Temporary Internet Files\Content.IE5\WA3QW2E4\MP910216430[1].jpg"/>
          <p:cNvPicPr/>
          <p:nvPr/>
        </p:nvPicPr>
        <p:blipFill>
          <a:blip r:embed="rId1"/>
          <a:stretch/>
        </p:blipFill>
        <p:spPr>
          <a:xfrm>
            <a:off x="3429000" y="502920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0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A42F-4F32-449E-96A5-D789A0EB28AE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248680" cy="1592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3284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ultural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– language, food, clothing, spiritual beliefs (People need to remember their history, language and traditions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609480" y="3429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0996-91BD-43B4-AFCC-1DFA3AAFE7EE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Cultural Empowermen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15080" cy="4206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made up of everyday things such as language, food and cloth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owerment comes from being free to practice your cult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need to feel free to remember their history, language and tradi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http://www.crystalinks.com/sundance2.jpg"/>
          <p:cNvPicPr/>
          <p:nvPr/>
        </p:nvPicPr>
        <p:blipFill>
          <a:blip r:embed="rId1"/>
          <a:stretch/>
        </p:blipFill>
        <p:spPr>
          <a:xfrm>
            <a:off x="1143000" y="2133720"/>
            <a:ext cx="2678040" cy="263340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D32B-03B6-4A94-8B7B-3CFFF8CBCBA2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248680" cy="15922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3284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verything people do when they live, work and pla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ogether in communities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Members of society being treated fairly and equally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63BD-6D08-465B-A9BF-94D161403F67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ocietal Empower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520040" cy="3749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olves everything people do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they live, work, and play together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 communiti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http://t3.gstatic.com/images?q=tbn:ANd9GcRH13eIM4jnttRmw_u1mjSpNKAADXlRnU0edq-KAHaEW6suUb--"/>
          <p:cNvPicPr/>
          <p:nvPr/>
        </p:nvPicPr>
        <p:blipFill>
          <a:blip r:embed="rId1"/>
          <a:stretch/>
        </p:blipFill>
        <p:spPr>
          <a:xfrm>
            <a:off x="2971800" y="4419720"/>
            <a:ext cx="2649600" cy="1984320"/>
          </a:xfrm>
          <a:prstGeom prst="rect">
            <a:avLst/>
          </a:prstGeom>
          <a:ln w="0">
            <a:noFill/>
          </a:ln>
        </p:spPr>
      </p:pic>
      <p:sp>
        <p:nvSpPr>
          <p:cNvPr id="22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A465-AF8E-4BE2-80F9-A6B2EA3F1B40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248680" cy="1592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914400" y="217152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hat a nation does without other nation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elling  them what to do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Laws, natural resources, war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609480" y="34290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8E9-87AE-4E22-99A7-A4E370FD0C08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3:13:36Z</dcterms:created>
  <dc:creator>ladmin</dc:creator>
  <dc:description/>
  <dc:language>en-US</dc:language>
  <cp:lastModifiedBy>ladmin</cp:lastModifiedBy>
  <dcterms:modified xsi:type="dcterms:W3CDTF">2014-09-22T22:01:32Z</dcterms:modified>
  <cp:revision>46</cp:revision>
  <dc:subject/>
  <dc:title>Personal Development  &amp;  Career Planning</dc:title>
</cp:coreProperties>
</file>